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7935-06C4-4915-B6F5-368B78512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893-5E1F-426B-88FA-67658CCB2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603-150F-4597-A391-D3E9CB53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2A5-3DBD-445C-894F-2190521E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D06-E226-4643-97E2-6D121D58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F0B-955E-43B1-87E6-0317147A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8DE-F3DB-40F5-B41D-C20E07F9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B98-6786-4071-BC80-07F8B596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DAA-3F26-4C91-B79D-E6F89926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FDE-9500-4D75-BF15-386AD845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BFD-7AF3-4569-A162-E9918758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8CE-57A9-4EAB-A092-63D3CE46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D7B-8894-4C62-BE70-486A82C3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CF8-195F-4F58-95B8-951D7ED2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09A5-1207-401B-894B-FFE1A08AB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eik Florade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93960"/>
            <a:ext cx="17528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Sheik. Yo vivo en New York. Tengo catorce años. Tengo dos hermano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82960"/>
            <a:ext cx="46332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mi amigos. ¿Como estas? ¿Y como son tu famili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8:16Z</dcterms:modified>
  <cp:revision>102</cp:revision>
  <dc:subject/>
  <dc:title>Profile</dc:title>
</cp:coreProperties>
</file>